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7DE881-8EA6-4574-B66C-59DB8447A0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0268D-8501-47DB-9374-2B81BE348BD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FD56E-304D-4542-BC95-44349053D541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04B-88C9-4876-B3C7-14FC4346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1BC-2159-449C-849B-0325C763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A5A8-EE2D-4EBD-A271-1FC1C05F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637C-30E7-417C-A549-4DBC1C13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C4C0B-B6EB-4671-A171-7F22B03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D659-E0DF-4A3C-9428-B9DF41D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175A-AA16-4451-90A2-1C2B5C12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057E2-852B-41F7-9AAC-830CF86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BE691-91D5-4ED3-B7DB-BEC9A597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4C49C-0DC5-44C0-9899-2CE58D81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35F7-A108-402A-AB70-9FE4EFD8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6495-E8C9-4B43-988B-47FC6329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B17-EAFF-42BA-A481-3E0F7B3A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65880-877E-4998-B3CD-5C36AD95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03A02-E084-4370-A6BD-3E8B24B2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97478-7042-4779-B616-7D458DD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B1D8-D746-43CE-9BD1-9FDDBC5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0AA29-C1E0-4245-AA63-D19342F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EE32D-5CA9-42AA-A914-3B9C684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DA328-FA81-4E89-BE70-EAA09D7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406BB-7BB1-4386-B439-2174028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D769E-C54A-4936-9B21-6246CD3F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D1C12-A977-401E-84A4-E538A3A8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C46-4383-4632-BCE1-9FEA4896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A7D75-E382-4B56-8966-45934551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A09AD-8CAC-4FCB-B680-36F28F06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D03BC-0D82-464A-9597-FDA606E6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8BD9E-5137-458A-ACAE-E6D7F9D9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C1864-BBDA-4B9D-B68A-B95CDEC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AA65A-D34A-4E1B-94ED-C97DC64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88E19-3FDE-4E17-A07E-F3A8C81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B6D77-C7FA-4C27-B163-AAAD407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AD519-0708-4766-B7E0-1ECD858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5BE39-F41A-4704-BE08-96F898B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96094-2185-4F6D-8AAC-4A3781D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D167F-5007-41C1-B3E1-6424F977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7217E-E4E8-4744-AC4A-D6DDBCE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76A6C-3CF9-4261-B899-D36647CB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082CB-3F66-42C5-B949-2C050F6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33C4-EAD3-4119-B254-884C4A19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6444D-2223-461F-B227-35F9ED34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72994-F77B-4B01-859A-35348B06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52DDF-FFD7-434E-B614-101AEC6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1D991-A18F-4282-855D-581C06D3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F5640-4D4B-4B12-BF54-0F1BA3E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6317-84A2-4972-954A-92AD23BD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F601E-5288-41E8-83F7-8BA20E86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DE614-B017-4A3C-AE8E-D1FD8165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CEC5B-AB7B-4721-93AE-B54550DB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62F44-F902-4D1B-A95A-3C74104E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727F6-5AFB-4D25-814D-E38FF4B0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FDA49-4FB7-48CF-920B-C9A5A586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2D806-27D6-4934-9F83-1A023E7E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7C94B-D09E-4292-9D3C-000C360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F1532-9D30-4426-B6BC-9B0616F0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93809-0B13-4D88-967D-6A476DE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70518-D678-41E9-AFAF-767CA03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B6526-7333-4FD7-BF30-35805776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83387-43EA-4A6D-9FB9-20E2DF4F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1B0CC-EFC6-4FEE-BEF5-6702A1C2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FBE23-4068-4394-8B5A-374550EA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EBE24-B957-4B54-AF9D-D80671F6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C6177-408A-4BD0-8FD1-BCD124F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7B059-4DB0-4AC9-8DA4-345C3A3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E3208-ED81-419D-A6DC-29C7425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EF6FB-7119-4EEC-9EC8-BB069B43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65C13-ADA2-4529-97B3-CEB29754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6D9D0-C5CE-46D0-B79E-C10FDA1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816F6-8815-4494-BBDB-FF70A89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F5FC0-6643-44AF-9EA7-2A95922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403DB-07DA-4A10-9864-22125EE7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66854-9DD0-4E99-9EF8-1ED233A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00967-C01E-4905-BE6E-5C75F7BA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CF836-AF8B-4C19-9EA1-1D74B018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00DD1-4960-4C01-BA5D-46A06086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D65D2-091D-4A30-99D1-B9B739F5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7C91D-D59C-4862-8852-05C5206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52249-7F06-4C72-861D-B757479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78404-0ADA-4C94-A1F5-5D4C1A4E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4BF1D-9D3E-4EAF-8957-222FCC2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66AF2-C7AF-4FAE-A9E6-3D52912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AC615-A789-4F4C-BD5A-696ED38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218C3-90BF-47F9-A014-875350FC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790A4-4888-4072-8BDF-2C464F97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DCF14-F5D7-4796-BA10-803994A4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6DA8C-2165-4D20-986E-A527A65E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C9713-764C-4A8D-9F10-938DAB54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B4968-47B2-451A-90BA-D529034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2B941-2354-4DEB-8FC0-FA894DEC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9CFAE-348F-4BB3-AB9E-13A32AF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21707-2481-46EE-8D24-0AF7D07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B868C-454F-4A54-B439-FD9C339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266F5-DC64-4213-8AE8-1C88689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C84F3-90C4-4AC3-9508-2FF4E70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DC681-9B74-403B-9135-992E137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885F2-3170-44A3-82C4-1895761A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88E1E-3C3E-41F4-AFD5-82EE5523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986D7-3408-4F33-97F3-B6356AAA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330C9-D293-4184-B3BC-ED5D8A33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7B6B3-017E-4872-A9AA-DB1F342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E442B-B9A9-4DC2-8174-8FBB1C79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54C5A-96B3-404D-8E86-FC2B061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11EB2-2F2C-47E6-B52C-0235BBF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C410B-EFBD-4CD9-9251-909E478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D5E-1A79-4343-BC5A-429D1114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9D1F2-5F1F-49FF-BAE8-D768BA6A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BAE5D-84F1-4476-96CA-9457229D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4E22A-6DB6-4616-A870-DDA4453E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93A35-D888-4D49-B8B6-6764257C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74226-FC1F-4420-BEEE-80AC814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D35AB-F592-4210-BB22-3410BA8F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3F023-BE09-4561-9BFD-AEBA759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E39F4-7E32-460B-98D0-F0D91F18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EA99B-C740-47E0-8913-556DD32C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07EB5-049D-45F3-8EE7-DEFC575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398E3-6B2D-4047-A1C9-D70967F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14FEC-7B8F-4694-8482-AF56B99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76AE0-20B6-4B27-ABA5-37C28F0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CA885-263A-40B9-A82F-D6EE916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9F2AC-FF4E-4262-8574-456A1516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72A32-9598-4F1A-A780-96D12C87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3A4AB-2FE5-40F9-8806-BDDFE26B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378-0724-46A8-8ECC-86720587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D5C-FE89-4CF8-A59A-A114783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5E7E-AEBD-4E7D-A4F9-A81AF341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E91-F612-4BE2-A752-3FE2F6FF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6EB5-DE49-490D-B922-BA98457C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686E-F943-4A86-85CB-228821A4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12D5-86AE-46D6-AF89-DEAE9BA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4A9DF-7C93-4F25-B438-44C07CF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39D2-831A-4F16-BEF4-32E4E434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80FC-52B0-4087-B6DB-F74F0CE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9E81-2B78-47E0-9BD4-37DC612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BE9F-9A70-497C-956A-CB57182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A65AD-3F51-49FE-AB1A-AA57DABC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F113-E220-4779-89B4-ED1FE4FC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8F0-2787-4017-BBA8-9F5DBC56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17DEB-9BB5-46C1-A192-491F9189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F97DC-FCBD-49DC-9013-F639A28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44CD-4F7E-4A4B-86DF-DAA92C1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0A03-287C-4A6A-BDAC-D2C2AED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3DE2B-D6C0-4779-AFEF-F0D7C6B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7C90-50A3-4482-BCD9-0026AC0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A0D3-B63A-4C49-A116-FCABADB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4974-A350-4CEB-B9F9-1BF87D6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55763-7915-4726-948C-5B8A80D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4AD6-8AC7-41EE-97F9-5C7046B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F7B-C1CA-4AC3-97F1-735D6AC2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4637-FC60-48D9-B79C-5388C03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BBC8-5663-43E6-9C7F-05788E51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410C-EFB5-41BC-A02F-55A1F6B8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F25D-21C8-461A-AB10-37388F5B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46F44-551A-415F-9014-AB470205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73013-28A9-4D9B-AB8E-FD9F860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11A2A-F2AC-446B-89FB-44FDD04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71A9-326B-4D9E-BE5F-67717E41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1082-E3FB-41EB-BC9F-E16CA700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61205-F5CA-42E9-B645-2251A874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783-00DB-43C5-A6CC-3717257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8BE1-906A-467C-A4CB-CB42121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5BC5-A168-4284-AA85-B2CB051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4909-0AEA-4D82-ABD3-5C38E97E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FF02-1F25-4FFA-B07C-582D4259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4ECA4-5BFF-4C2C-9BC4-067E31F0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E415-888A-4AF8-8B34-B0829EB6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45E0E-BD1F-478E-9A04-71CDB9B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A0F2C-CCB5-4A32-8F56-532E1705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2565-CC0C-4329-87E9-065AAEF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2494-B1D5-4144-A111-EBFAC12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688-6282-4821-8D03-656E22F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F0A0-D384-43F3-899D-EF32FDD9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40AC7-4564-40B7-8816-8D0C2BC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A58A-274C-436E-B27D-B635FB9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611C-C8C6-43B8-B8B4-E2E87E6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B189-B550-49E0-8D61-0F2076FD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B0CF-6705-4605-A63A-E7489CD1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95B3-1FBD-406B-91E0-1C3D9EEA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99502-48A0-4A35-AF2F-E8F7433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7D2D-20B7-4B2D-8CD7-D09C4DE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DFA3-9AC8-4EB8-A595-8F5BBFD6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99D1-204A-4C5B-AC87-B4C89FA4BA0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2B1-C653-4EB4-9DD0-D797F8C5CC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D0FB-6E90-4409-9420-92CC08BC5B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0E8F-5FCA-4014-99B9-6F7C04A74E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C25A-53E4-4467-8ACD-D41513C11D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EBD8-DB60-40A2-AB98-BCA0C22374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06B1-4C12-4BA2-9571-668EB7C949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214-12DF-4A32-84EC-8C45AE2C268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30A-0B24-4A98-AA64-E63C0D055FCC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8D86-782D-42CF-8C2E-8A720F2C3E1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7EE8-3151-48EC-A098-8AC07CC3F22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EFA5-75FD-4C8B-8F16-68C1190B6B1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5032-28C6-4F7A-A1BD-1626A71173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EFB-E2F3-406C-903F-1310EA5A3E2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245E-0E21-41F7-89C7-53FD3871F0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95EE-FC9D-4848-B148-AC96E5DB7B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D55-453B-4E39-9D80-56F47F0A24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E9C-F5C6-458C-93FD-870904845B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CE1-2EE2-45F1-A703-15337E9DC2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06D9-64D8-4AEE-970B-D7F84C49AD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E6C-3C55-47E6-92B1-56433FB566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DB47-0183-442D-84E1-C395124161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6513-6DF1-40B9-AA2E-DCF54F20CD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9F08-76BC-40C9-ACED-49D8605C7C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429-7AFE-4ECE-99E4-A8C026D2BF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1EC-5F55-4FD3-87CF-0C668F527C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3B80-3E7E-44D4-9732-BA562BF74D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162-6C3B-4C4F-AC7A-DD186D34BD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6D0B-2B39-4DC3-8644-25AAC89E0B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AB4D-EE6B-45E7-86AF-D442B2901B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CA28-7682-4617-A784-9B20177201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7C1-AA47-4AEC-9C32-F9AD09351B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DCBB-9489-4FAE-87CE-8D67BF8607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A7EC-AC61-4001-8597-34AF647A29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DDD-F6C6-4CD1-BE58-0E51C0DA8A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F52A-6C54-4523-B2C0-FB10830C1E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F38-4F81-4C32-8EFF-8413A5C3B3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7E5-F5EE-492E-BA6C-5C0AE2A522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782-B16D-43E6-9897-A53D509A2F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77C-2435-4BF7-B82A-46066B1708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9C6-8C6D-40C2-ACD4-2CF7DE19CE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88F7-585F-440F-8A08-52AEAB19D3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0D57-47E4-4B47-98DD-2E8D0BF2A3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72E9-65EF-4ACD-B59D-B1485225AA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0E68-FDCF-4E5B-9EC3-0B27173013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2CB8-0095-4DEC-87C6-249C5C1101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185F-59A6-4A61-B419-E20F1F67C2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1DC-EEBC-4492-8E0E-25521CE015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369F-2218-40C1-8B4C-C38AD1BB25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652-6ADC-4B88-B457-F781F58436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CEFE-AA81-40B0-AD45-3052EB8906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1C7-F48F-4AB8-A575-2C193556C9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948-4D12-452D-9B7B-484F13C0FA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E165-E784-410D-8ED8-574F330281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A776-F010-4898-BC4D-A7A2D0CF3F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5A9-A511-4421-A231-54B0699CC3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172-0310-4AA1-A54B-7B3C95C66F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1373-8885-4EDA-9B4F-A2A68EF330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0D6E-8550-4789-9606-217A78483B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F933-9193-4FAA-A657-B93B7E6894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1DE-CA43-4694-BA03-5B0E0747A9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0DE1-9D66-4492-A983-CC9B3992A2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B044-0635-4072-A93B-1CAC5C5794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78C-1D92-41BB-87ED-133A3A1DEE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2CCB-FCAE-46B8-80D5-FD0D39FFDA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04E-FDB9-4AE0-AB7B-790FBDE14F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EE14-8ECF-4FE5-9D69-FC32C287E3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290-38DF-49A2-842A-CB6144BD25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E9B-7F2D-405D-9E20-89B89FC37C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2E7-D610-4507-A4BA-C4045FAE16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96B6-3D55-4580-A53A-3719BC6809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E35B-2862-448C-A775-28C3D723E9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7-07-03T09:06:17Z</dcterms:modified>
  <cp:revision>114</cp:revision>
  <dc:subject/>
  <dc:title>Aims and Objectives</dc:title>
</cp:coreProperties>
</file>